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  <p:sldId id="269" r:id="rId21"/>
    <p:sldId id="270" r:id="rId22"/>
    <p:sldId id="271" r:id="rId23"/>
    <p:sldId id="272" r:id="rId24"/>
    <p:sldId id="273" r:id="rId25"/>
    <p:sldId id="274" r:id="rId26"/>
    <p:sldId id="275" r:id="rId27"/>
    <p:sldId id="276" r:id="rId28"/>
    <p:sldId id="277" r:id="rId29"/>
    <p:sldId id="278" r:id="rId30"/>
    <p:sldId id="279" r:id="rId31"/>
    <p:sldId id="280" r:id="rId32"/>
    <p:sldId id="281" r:id="rId33"/>
    <p:sldId id="282" r:id="rId34"/>
    <p:sldId id="283" r:id="rId35"/>
    <p:sldId id="284" r:id="rId36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slide" Target="slides/slide14.xml"/><Relationship Id="rId22" Type="http://schemas.openxmlformats.org/officeDocument/2006/relationships/slide" Target="slides/slide15.xml"/><Relationship Id="rId23" Type="http://schemas.openxmlformats.org/officeDocument/2006/relationships/slide" Target="slides/slide16.xml"/><Relationship Id="rId24" Type="http://schemas.openxmlformats.org/officeDocument/2006/relationships/slide" Target="slides/slide17.xml"/><Relationship Id="rId25" Type="http://schemas.openxmlformats.org/officeDocument/2006/relationships/slide" Target="slides/slide18.xml"/><Relationship Id="rId26" Type="http://schemas.openxmlformats.org/officeDocument/2006/relationships/slide" Target="slides/slide19.xml"/><Relationship Id="rId27" Type="http://schemas.openxmlformats.org/officeDocument/2006/relationships/slide" Target="slides/slide20.xml"/><Relationship Id="rId28" Type="http://schemas.openxmlformats.org/officeDocument/2006/relationships/slide" Target="slides/slide21.xml"/><Relationship Id="rId29" Type="http://schemas.openxmlformats.org/officeDocument/2006/relationships/slide" Target="slides/slide22.xml"/><Relationship Id="rId30" Type="http://schemas.openxmlformats.org/officeDocument/2006/relationships/slide" Target="slides/slide23.xml"/><Relationship Id="rId31" Type="http://schemas.openxmlformats.org/officeDocument/2006/relationships/slide" Target="slides/slide24.xml"/><Relationship Id="rId32" Type="http://schemas.openxmlformats.org/officeDocument/2006/relationships/slide" Target="slides/slide25.xml"/><Relationship Id="rId33" Type="http://schemas.openxmlformats.org/officeDocument/2006/relationships/slide" Target="slides/slide26.xml"/><Relationship Id="rId34" Type="http://schemas.openxmlformats.org/officeDocument/2006/relationships/slide" Target="slides/slide27.xml"/><Relationship Id="rId35" Type="http://schemas.openxmlformats.org/officeDocument/2006/relationships/slide" Target="slides/slide28.xml"/><Relationship Id="rId36" Type="http://schemas.openxmlformats.org/officeDocument/2006/relationships/slide" Target="slides/slide29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move the slide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CE659-9AF8-49D3-B093-48797FFE451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Номер слайда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7FD38-9571-44F8-841C-394BB7AA9DE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A582-DAC1-4CB4-8512-993CFA576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71400" y="4986000"/>
            <a:ext cx="109108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71400" y="529920"/>
            <a:ext cx="109108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71400" y="2717280"/>
            <a:ext cx="109108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3E25-2D35-4E84-8A95-AFC838EEE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71400" y="4986000"/>
            <a:ext cx="109108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71400" y="529920"/>
            <a:ext cx="53244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262560" y="529920"/>
            <a:ext cx="53244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71400" y="2717280"/>
            <a:ext cx="53244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262560" y="2717280"/>
            <a:ext cx="53244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980D3-455F-4133-8A19-38952DAA9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71400" y="4986000"/>
            <a:ext cx="109108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71400" y="529920"/>
            <a:ext cx="35128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360320" y="529920"/>
            <a:ext cx="35128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049240" y="529920"/>
            <a:ext cx="35128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71400" y="2717280"/>
            <a:ext cx="35128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4360320" y="2717280"/>
            <a:ext cx="35128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8049240" y="2717280"/>
            <a:ext cx="35128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0C91-077B-4745-A338-F98E64B585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B60AC1-F5CD-4D89-8BF7-B3CF8D41D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71400" y="4986000"/>
            <a:ext cx="109108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71400" y="529920"/>
            <a:ext cx="1091088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8F0B8-37D7-4DD7-97D6-F48171402E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71400" y="4986000"/>
            <a:ext cx="109108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71400" y="529920"/>
            <a:ext cx="109108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34E9C-D9F9-4B3D-96B2-46008CAEB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71400" y="4986000"/>
            <a:ext cx="109108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71400" y="529920"/>
            <a:ext cx="532440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62560" y="529920"/>
            <a:ext cx="532440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5002C-63FE-4609-B2CD-CCCF7845A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71400" y="4986000"/>
            <a:ext cx="109108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BA47B-2BCA-4312-96DB-948F7DC17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671400" y="4986000"/>
            <a:ext cx="1091088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98405-BF64-4128-AD20-6322ABC52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71400" y="4986000"/>
            <a:ext cx="109108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71400" y="529920"/>
            <a:ext cx="53244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62560" y="529920"/>
            <a:ext cx="532440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71400" y="2717280"/>
            <a:ext cx="53244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D7AC7-194E-4D4B-9FD0-C12876700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71400" y="4986000"/>
            <a:ext cx="109108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71400" y="529920"/>
            <a:ext cx="1091088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038E8-8D8F-461B-873A-B3976E7D7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71400" y="4986000"/>
            <a:ext cx="109108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71400" y="529920"/>
            <a:ext cx="532440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62560" y="529920"/>
            <a:ext cx="53244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262560" y="2717280"/>
            <a:ext cx="53244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67800-6031-427B-8F65-287466A14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71400" y="4986000"/>
            <a:ext cx="109108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71400" y="529920"/>
            <a:ext cx="53244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62560" y="529920"/>
            <a:ext cx="53244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71400" y="2717280"/>
            <a:ext cx="109108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CAA87-8326-4C3A-851F-9759F544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71400" y="4986000"/>
            <a:ext cx="109108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71400" y="529920"/>
            <a:ext cx="109108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71400" y="2717280"/>
            <a:ext cx="109108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D3AC3-5834-4F19-B77E-16DF3457A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71400" y="4986000"/>
            <a:ext cx="109108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71400" y="529920"/>
            <a:ext cx="53244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6262560" y="529920"/>
            <a:ext cx="53244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71400" y="2717280"/>
            <a:ext cx="53244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262560" y="2717280"/>
            <a:ext cx="53244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BD0E2-3288-47F6-93DC-01B2C589E0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71400" y="4986000"/>
            <a:ext cx="109108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71400" y="529920"/>
            <a:ext cx="35128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360320" y="529920"/>
            <a:ext cx="35128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049240" y="529920"/>
            <a:ext cx="35128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71400" y="2717280"/>
            <a:ext cx="35128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4360320" y="2717280"/>
            <a:ext cx="35128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8049240" y="2717280"/>
            <a:ext cx="35128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B9326-3338-4F6D-961D-4EEA886A8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0610E1-3C5F-468B-8560-595C3DEDC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71400" y="4986000"/>
            <a:ext cx="109108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71400" y="529920"/>
            <a:ext cx="1091088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072F7B-4E4D-43CC-9E58-DEACABF5B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71400" y="4986000"/>
            <a:ext cx="109108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71400" y="529920"/>
            <a:ext cx="109108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53BD09-1616-4235-86CA-8AB459B43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71400" y="4986000"/>
            <a:ext cx="109108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71400" y="529920"/>
            <a:ext cx="532440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6262560" y="529920"/>
            <a:ext cx="532440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71F61C-2557-44B3-AF03-8D192A31F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71400" y="4986000"/>
            <a:ext cx="109108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4DEEF-510A-4DFD-9C58-B96045E64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71400" y="4986000"/>
            <a:ext cx="109108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71400" y="529920"/>
            <a:ext cx="109108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7D2B-F6D7-4A39-B847-84DF16777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671400" y="4986000"/>
            <a:ext cx="1091088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D6A157-0756-40C0-B193-573565429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71400" y="4986000"/>
            <a:ext cx="109108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71400" y="529920"/>
            <a:ext cx="53244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6262560" y="529920"/>
            <a:ext cx="532440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71400" y="2717280"/>
            <a:ext cx="53244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1F693-2691-465A-9587-CF30CF5E0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71400" y="4986000"/>
            <a:ext cx="109108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71400" y="529920"/>
            <a:ext cx="532440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6262560" y="529920"/>
            <a:ext cx="53244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262560" y="2717280"/>
            <a:ext cx="53244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FEF7DD-901F-4659-AD2E-170847099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71400" y="4986000"/>
            <a:ext cx="109108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71400" y="529920"/>
            <a:ext cx="53244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62560" y="529920"/>
            <a:ext cx="53244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71400" y="2717280"/>
            <a:ext cx="109108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233349-8E83-4FF1-AB9D-127D7D653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71400" y="4986000"/>
            <a:ext cx="109108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71400" y="529920"/>
            <a:ext cx="109108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671400" y="2717280"/>
            <a:ext cx="109108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02ECFF-D540-4789-A1BE-A2593F62D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71400" y="4986000"/>
            <a:ext cx="109108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71400" y="529920"/>
            <a:ext cx="53244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262560" y="529920"/>
            <a:ext cx="53244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71400" y="2717280"/>
            <a:ext cx="53244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6262560" y="2717280"/>
            <a:ext cx="53244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B9F255-78BF-4B39-A4E2-21C95A32F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71400" y="4986000"/>
            <a:ext cx="109108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71400" y="529920"/>
            <a:ext cx="35128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360320" y="529920"/>
            <a:ext cx="35128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8049240" y="529920"/>
            <a:ext cx="35128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671400" y="2717280"/>
            <a:ext cx="35128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4360320" y="2717280"/>
            <a:ext cx="35128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8049240" y="2717280"/>
            <a:ext cx="35128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78CE23-5DDE-4D7C-B12F-C65567EBD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BE9707D-37F3-4B6A-84D4-DE8CD56082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71400" y="4986000"/>
            <a:ext cx="109108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671400" y="529920"/>
            <a:ext cx="1091088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5E79F2-BB90-48A0-A601-AF8C1B13E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71400" y="4986000"/>
            <a:ext cx="109108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71400" y="529920"/>
            <a:ext cx="109108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973585-211E-4206-A490-A5B4ADA03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71400" y="4986000"/>
            <a:ext cx="109108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71400" y="529920"/>
            <a:ext cx="532440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262560" y="529920"/>
            <a:ext cx="532440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C9FA7-D4E8-421B-ABCB-4A33D5ABC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71400" y="4986000"/>
            <a:ext cx="109108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71400" y="529920"/>
            <a:ext cx="532440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62560" y="529920"/>
            <a:ext cx="532440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1300DC-6E6C-4DD5-B8CE-A149B0CDD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71400" y="4986000"/>
            <a:ext cx="109108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9C17D0-C1AE-4E60-821D-23DA09E11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671400" y="4986000"/>
            <a:ext cx="1091088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D97794-36E2-4E98-AA13-8268BB177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71400" y="4986000"/>
            <a:ext cx="109108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71400" y="529920"/>
            <a:ext cx="53244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6262560" y="529920"/>
            <a:ext cx="532440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71400" y="2717280"/>
            <a:ext cx="53244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0D93F-7CE0-4D83-AA45-3EA4C8717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71400" y="4986000"/>
            <a:ext cx="109108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71400" y="529920"/>
            <a:ext cx="532440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262560" y="529920"/>
            <a:ext cx="53244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6262560" y="2717280"/>
            <a:ext cx="53244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C6E3BF-A129-4D0C-80C9-4D1BFACAB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71400" y="4986000"/>
            <a:ext cx="109108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71400" y="529920"/>
            <a:ext cx="53244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6262560" y="529920"/>
            <a:ext cx="53244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71400" y="2717280"/>
            <a:ext cx="109108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084A8E-06E3-415C-8D86-2BEA6DEBD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71400" y="4986000"/>
            <a:ext cx="109108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71400" y="529920"/>
            <a:ext cx="109108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671400" y="2717280"/>
            <a:ext cx="109108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6820FF-E825-47EB-9392-09D1E5585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71400" y="4986000"/>
            <a:ext cx="109108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71400" y="529920"/>
            <a:ext cx="53244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6262560" y="529920"/>
            <a:ext cx="53244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71400" y="2717280"/>
            <a:ext cx="53244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6262560" y="2717280"/>
            <a:ext cx="53244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7D20DE-EE67-41F2-8658-83CD76A81A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71400" y="4986000"/>
            <a:ext cx="109108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71400" y="529920"/>
            <a:ext cx="35128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360320" y="529920"/>
            <a:ext cx="35128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8049240" y="529920"/>
            <a:ext cx="35128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671400" y="2717280"/>
            <a:ext cx="35128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4360320" y="2717280"/>
            <a:ext cx="35128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8049240" y="2717280"/>
            <a:ext cx="35128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2EEF4-2240-4859-A82D-04492E121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AC05BA-49BE-4D51-8C0C-D7204B98E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71400" y="4986000"/>
            <a:ext cx="109108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029ED-8D26-43DB-91B4-7A4E5A2DF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71400" y="4986000"/>
            <a:ext cx="109108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671400" y="529920"/>
            <a:ext cx="1091088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2412BB-E493-4332-9D9D-3B48CEFEB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71400" y="4986000"/>
            <a:ext cx="109108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71400" y="529920"/>
            <a:ext cx="109108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D6CFE1-9CB5-4CB9-811B-ED2DAD34B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71400" y="4986000"/>
            <a:ext cx="109108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71400" y="529920"/>
            <a:ext cx="532440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6262560" y="529920"/>
            <a:ext cx="532440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E71AC3-D820-4F36-BF56-7C0A040BA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71400" y="4986000"/>
            <a:ext cx="109108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83335F-0FD7-4FA4-B01A-8F94593CB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671400" y="4986000"/>
            <a:ext cx="1091088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D98395-1528-4E1E-89E8-5EC4A17F8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71400" y="4986000"/>
            <a:ext cx="109108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71400" y="529920"/>
            <a:ext cx="53244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62560" y="529920"/>
            <a:ext cx="532440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71400" y="2717280"/>
            <a:ext cx="53244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9539C3-8743-498E-82AA-41280C9A4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71400" y="4986000"/>
            <a:ext cx="109108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71400" y="529920"/>
            <a:ext cx="532440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262560" y="529920"/>
            <a:ext cx="53244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262560" y="2717280"/>
            <a:ext cx="53244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D51087-2D6D-4F4B-B176-32D2CD820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71400" y="4986000"/>
            <a:ext cx="109108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71400" y="529920"/>
            <a:ext cx="53244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262560" y="529920"/>
            <a:ext cx="53244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71400" y="2717280"/>
            <a:ext cx="109108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A01D07F-0736-4C10-B82D-DF5C3A566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71400" y="4986000"/>
            <a:ext cx="109108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71400" y="529920"/>
            <a:ext cx="109108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71400" y="2717280"/>
            <a:ext cx="109108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4B16F-90B6-40A6-A18A-820661CDD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71400" y="4986000"/>
            <a:ext cx="109108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671400" y="529920"/>
            <a:ext cx="53244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262560" y="529920"/>
            <a:ext cx="53244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671400" y="2717280"/>
            <a:ext cx="53244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6262560" y="2717280"/>
            <a:ext cx="53244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95A6CAA-3E75-462C-8047-3BDB7FD33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71400" y="4986000"/>
            <a:ext cx="1091088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235D-88E7-4233-A039-6DFDE0D49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71400" y="4986000"/>
            <a:ext cx="109108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71400" y="529920"/>
            <a:ext cx="35128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360320" y="529920"/>
            <a:ext cx="35128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8049240" y="529920"/>
            <a:ext cx="35128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671400" y="2717280"/>
            <a:ext cx="35128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4360320" y="2717280"/>
            <a:ext cx="35128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8049240" y="2717280"/>
            <a:ext cx="35128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2344A2-E727-42D2-A89A-189DAF7FF5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71400" y="4986000"/>
            <a:ext cx="109108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71400" y="529920"/>
            <a:ext cx="53244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62560" y="529920"/>
            <a:ext cx="532440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71400" y="2717280"/>
            <a:ext cx="53244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5C0D-4860-4F44-998C-6CEDF6578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71400" y="4986000"/>
            <a:ext cx="109108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71400" y="529920"/>
            <a:ext cx="532440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62560" y="529920"/>
            <a:ext cx="53244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62560" y="2717280"/>
            <a:ext cx="53244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0014F-C001-47C1-8967-85EA4719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71400" y="4986000"/>
            <a:ext cx="109108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71400" y="529920"/>
            <a:ext cx="53244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62560" y="529920"/>
            <a:ext cx="532440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71400" y="2717280"/>
            <a:ext cx="109108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1F62-3414-4CA9-84FD-EBD418F50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Скругленный прямоугольник 6"/>
          <p:cNvSpPr/>
          <p:nvPr/>
        </p:nvSpPr>
        <p:spPr>
          <a:xfrm>
            <a:off x="406440" y="328680"/>
            <a:ext cx="1137744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" name="Скругленный прямоугольник 8"/>
          <p:cNvGrpSpPr/>
          <p:nvPr/>
        </p:nvGrpSpPr>
        <p:grpSpPr>
          <a:xfrm>
            <a:off x="560520" y="433440"/>
            <a:ext cx="11071080" cy="5486400"/>
            <a:chOff x="560520" y="433440"/>
            <a:chExt cx="11071080" cy="5486400"/>
          </a:xfrm>
        </p:grpSpPr>
        <p:pic>
          <p:nvPicPr>
            <p:cNvPr id="2" name="Скругленный прямоугольник 8" descr=""/>
            <p:cNvPicPr/>
            <p:nvPr/>
          </p:nvPicPr>
          <p:blipFill>
            <a:blip r:embed="rId2"/>
            <a:stretch/>
          </p:blipFill>
          <p:spPr>
            <a:xfrm>
              <a:off x="560520" y="433440"/>
              <a:ext cx="11071080" cy="548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592200" y="468360"/>
              <a:ext cx="1100772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71400" y="4986000"/>
            <a:ext cx="109108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71400" y="529920"/>
            <a:ext cx="109108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5035680" y="6111360"/>
            <a:ext cx="3047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8083080" y="6111360"/>
            <a:ext cx="3048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11131200" y="6111360"/>
            <a:ext cx="609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1A9D3-E3D4-4F25-AA66-D4DF1971A0CE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Скругленный прямоугольник 9"/>
          <p:cNvSpPr/>
          <p:nvPr/>
        </p:nvSpPr>
        <p:spPr>
          <a:xfrm>
            <a:off x="406440" y="328680"/>
            <a:ext cx="1137744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46" name="Скругленный прямоугольник 10"/>
          <p:cNvGrpSpPr/>
          <p:nvPr/>
        </p:nvGrpSpPr>
        <p:grpSpPr>
          <a:xfrm>
            <a:off x="560520" y="433440"/>
            <a:ext cx="11071080" cy="3108240"/>
            <a:chOff x="560520" y="433440"/>
            <a:chExt cx="11071080" cy="3108240"/>
          </a:xfrm>
        </p:grpSpPr>
        <p:pic>
          <p:nvPicPr>
            <p:cNvPr id="47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560520" y="433440"/>
              <a:ext cx="11071080" cy="310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"/>
            <p:cNvSpPr/>
            <p:nvPr/>
          </p:nvSpPr>
          <p:spPr>
            <a:xfrm>
              <a:off x="600120" y="476280"/>
              <a:ext cx="1099188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71400" y="4986000"/>
            <a:ext cx="109108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71400" y="529920"/>
            <a:ext cx="109108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5035680" y="6111360"/>
            <a:ext cx="3047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8083080" y="6111360"/>
            <a:ext cx="3048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11131200" y="6111360"/>
            <a:ext cx="609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260FA-FAEC-44A9-AA21-34D8803E923C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Скругленный прямоугольник 9"/>
          <p:cNvSpPr/>
          <p:nvPr/>
        </p:nvSpPr>
        <p:spPr>
          <a:xfrm>
            <a:off x="406440" y="328680"/>
            <a:ext cx="1137744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91" name="Скругленный прямоугольник 10"/>
          <p:cNvGrpSpPr/>
          <p:nvPr/>
        </p:nvGrpSpPr>
        <p:grpSpPr>
          <a:xfrm>
            <a:off x="560520" y="433440"/>
            <a:ext cx="11071080" cy="4340160"/>
            <a:chOff x="560520" y="433440"/>
            <a:chExt cx="11071080" cy="4340160"/>
          </a:xfrm>
        </p:grpSpPr>
        <p:pic>
          <p:nvPicPr>
            <p:cNvPr id="92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560520" y="433440"/>
              <a:ext cx="11071080" cy="4340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585720" y="461880"/>
              <a:ext cx="110203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71400" y="4986000"/>
            <a:ext cx="109108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671400" y="529920"/>
            <a:ext cx="109108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5035680" y="6111360"/>
            <a:ext cx="3047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8083080" y="6111360"/>
            <a:ext cx="3048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11131200" y="6111360"/>
            <a:ext cx="609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16B0F-A7FC-4AAE-8C75-4108E075340B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Скругленный прямоугольник 9"/>
          <p:cNvSpPr/>
          <p:nvPr/>
        </p:nvSpPr>
        <p:spPr>
          <a:xfrm>
            <a:off x="406440" y="328680"/>
            <a:ext cx="1137744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71400" y="4986000"/>
            <a:ext cx="109108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71400" y="529920"/>
            <a:ext cx="109108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5035680" y="6111360"/>
            <a:ext cx="3047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8083080" y="6111360"/>
            <a:ext cx="3048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11131200" y="6111360"/>
            <a:ext cx="609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DE3A8-97CB-42EB-A3C9-DE90DA927D33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Скругленный прямоугольник 9"/>
          <p:cNvSpPr/>
          <p:nvPr/>
        </p:nvSpPr>
        <p:spPr>
          <a:xfrm>
            <a:off x="406440" y="328680"/>
            <a:ext cx="1137744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Прямоугольник с одним скругленным углом 10"/>
          <p:cNvSpPr/>
          <p:nvPr/>
        </p:nvSpPr>
        <p:spPr>
          <a:xfrm>
            <a:off x="8534520" y="433440"/>
            <a:ext cx="3098520" cy="4343400"/>
          </a:xfrm>
          <a:custGeom>
            <a:avLst/>
            <a:gdLst/>
            <a:ahLst/>
            <a:rect l="l" t="t" r="r" b="b"/>
            <a:pathLst>
              <a:path w="3098800" h="4343400">
                <a:moveTo>
                  <a:pt x="0" y="0"/>
                </a:moveTo>
                <a:lnTo>
                  <a:pt x="3013645" y="0"/>
                </a:lnTo>
                <a:cubicBezTo>
                  <a:pt x="3060675" y="0"/>
                  <a:pt x="3098800" y="38125"/>
                  <a:pt x="3098800" y="85155"/>
                </a:cubicBezTo>
                <a:lnTo>
                  <a:pt x="3098800" y="4343400"/>
                </a:lnTo>
                <a:lnTo>
                  <a:pt x="0" y="4343400"/>
                </a:lnTo>
                <a:lnTo>
                  <a:pt x="0" y="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71400" y="4986000"/>
            <a:ext cx="1091088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1400" y="529920"/>
            <a:ext cx="109108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5035680" y="6111360"/>
            <a:ext cx="3047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a7a399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8083080" y="6111360"/>
            <a:ext cx="30481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11131200" y="6111360"/>
            <a:ext cx="6094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a7a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AA5295-28E0-46AE-B0E1-1B26F2860CE5}" type="slidenum">
              <a:rPr b="0" lang="ru-RU" sz="1000" spc="-1" strike="noStrike">
                <a:solidFill>
                  <a:srgbClr val="a7a399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11172960" cy="27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c00000"/>
                </a:solidFill>
                <a:latin typeface="Verdana"/>
              </a:rPr>
              <a:t>7 и 13 – правда или суеверие?</a:t>
            </a:r>
            <a:br>
              <a:rPr sz="5400"/>
            </a:br>
            <a:endParaRPr b="1" lang="en-US" sz="54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2742840"/>
            <a:ext cx="11172960" cy="307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82880" tIns="0" anchor="t">
            <a:noAutofit/>
          </a:bodyPr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ыполнили: Лазорко Анн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ян Макси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ченики 5 «Б» класс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ГБОУ школа № 113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уководитель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Ковальчук Марина Александровна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636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2017 г   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69960" y="1571400"/>
            <a:ext cx="10912320" cy="105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326880"/>
            <a:ext cx="11277360" cy="626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82880" tIns="91440" anchor="t">
            <a:norm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Verdana"/>
              </a:rPr>
              <a:t>Дорога, корова, лапа, яблоко, воробей, мак, ковер, нос, пиджак, самолет 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Прямоугольник 2"/>
          <p:cNvSpPr/>
          <p:nvPr/>
        </p:nvSpPr>
        <p:spPr>
          <a:xfrm>
            <a:off x="174600" y="1787400"/>
            <a:ext cx="11690280" cy="131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4   3   6   9   0   2  7   4  6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2"/>
          <p:cNvSpPr/>
          <p:nvPr/>
        </p:nvSpPr>
        <p:spPr>
          <a:xfrm>
            <a:off x="0" y="0"/>
            <a:ext cx="12192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48" name="Объект 4"/>
          <p:cNvGraphicFramePr/>
          <p:nvPr/>
        </p:nvGraphicFramePr>
        <p:xfrm>
          <a:off x="152280" y="326880"/>
          <a:ext cx="11865240" cy="6424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9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326880"/>
                    <a:ext cx="11865240" cy="642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2"/>
          <p:cNvSpPr/>
          <p:nvPr/>
        </p:nvSpPr>
        <p:spPr>
          <a:xfrm>
            <a:off x="0" y="-92880"/>
            <a:ext cx="24442560" cy="6426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00000"/>
                </a:solidFill>
                <a:latin typeface="Verdana"/>
              </a:rPr>
              <a:t>              </a:t>
            </a:r>
            <a:r>
              <a:rPr b="1" lang="ru-RU" sz="3600" spc="-1" strike="noStrike">
                <a:solidFill>
                  <a:srgbClr val="c00000"/>
                </a:solidFill>
                <a:latin typeface="Verdana"/>
              </a:rPr>
              <a:t>Всего запомнили в процентах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1" name="Объект 4" descr=""/>
          <p:cNvPicPr/>
          <p:nvPr/>
        </p:nvPicPr>
        <p:blipFill>
          <a:blip r:embed="rId1"/>
          <a:stretch/>
        </p:blipFill>
        <p:spPr>
          <a:xfrm>
            <a:off x="320760" y="457200"/>
            <a:ext cx="11658600" cy="6400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69960" y="4983120"/>
            <a:ext cx="109123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3" name="Объект 3" descr=""/>
          <p:cNvPicPr/>
          <p:nvPr/>
        </p:nvPicPr>
        <p:blipFill>
          <a:blip r:embed="rId1"/>
          <a:stretch/>
        </p:blipFill>
        <p:spPr>
          <a:xfrm>
            <a:off x="123840" y="-50760"/>
            <a:ext cx="12119040" cy="6807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69960" y="4983120"/>
            <a:ext cx="109123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5" name="Объект 3" descr=""/>
          <p:cNvPicPr/>
          <p:nvPr/>
        </p:nvPicPr>
        <p:blipFill>
          <a:blip r:embed="rId1"/>
          <a:stretch/>
        </p:blipFill>
        <p:spPr>
          <a:xfrm>
            <a:off x="287280" y="257040"/>
            <a:ext cx="11676240" cy="6405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69960" y="4983120"/>
            <a:ext cx="109123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pic>
        <p:nvPicPr>
          <p:cNvPr id="257" name="Объект 3" descr=""/>
          <p:cNvPicPr/>
          <p:nvPr/>
        </p:nvPicPr>
        <p:blipFill>
          <a:blip r:embed="rId1"/>
          <a:stretch/>
        </p:blipFill>
        <p:spPr>
          <a:xfrm>
            <a:off x="309600" y="-50760"/>
            <a:ext cx="11725200" cy="695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Диаграмма 3" descr=""/>
          <p:cNvPicPr/>
          <p:nvPr/>
        </p:nvPicPr>
        <p:blipFill>
          <a:blip r:embed="rId1"/>
          <a:stretch/>
        </p:blipFill>
        <p:spPr>
          <a:xfrm>
            <a:off x="190440" y="165240"/>
            <a:ext cx="11819160" cy="643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9" name="Диаграмма 3" descr=""/>
          <p:cNvPicPr/>
          <p:nvPr/>
        </p:nvPicPr>
        <p:blipFill>
          <a:blip r:embed="rId1"/>
          <a:stretch/>
        </p:blipFill>
        <p:spPr>
          <a:xfrm>
            <a:off x="141120" y="235080"/>
            <a:ext cx="11893680" cy="6622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Диаграмма 3" descr=""/>
          <p:cNvPicPr/>
          <p:nvPr/>
        </p:nvPicPr>
        <p:blipFill>
          <a:blip r:embed="rId1"/>
          <a:stretch/>
        </p:blipFill>
        <p:spPr>
          <a:xfrm>
            <a:off x="117360" y="141120"/>
            <a:ext cx="11892240" cy="650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22360" y="0"/>
            <a:ext cx="11407680" cy="1030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Verdana"/>
              </a:rPr>
              <a:t>Актуальность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522360" y="1014480"/>
            <a:ext cx="11407680" cy="584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заимодействие человека с окружающей средой вынуждало его взаимодействовать и  с числами. Он издревле верил в магические их свойства. За огромное количество прошедших столетий понятия о цифрах и числах обросли разными легендами и мистическими загадками.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Людям свойственна и другая крайность – присвоение некоторым числам каких-то особых положительных качеств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1" name="Диаграмма 3" descr=""/>
          <p:cNvPicPr/>
          <p:nvPr/>
        </p:nvPicPr>
        <p:blipFill>
          <a:blip r:embed="rId1"/>
          <a:stretch/>
        </p:blipFill>
        <p:spPr>
          <a:xfrm>
            <a:off x="285840" y="262080"/>
            <a:ext cx="11675880" cy="6646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Диаграмма 4" descr=""/>
          <p:cNvPicPr/>
          <p:nvPr/>
        </p:nvPicPr>
        <p:blipFill>
          <a:blip r:embed="rId1"/>
          <a:stretch/>
        </p:blipFill>
        <p:spPr>
          <a:xfrm>
            <a:off x="150840" y="204840"/>
            <a:ext cx="11823840" cy="6703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3" name=""/>
          <p:cNvGraphicFramePr/>
          <p:nvPr/>
        </p:nvGraphicFramePr>
        <p:xfrm>
          <a:off x="168120" y="1015920"/>
          <a:ext cx="11766600" cy="5846760"/>
        </p:xfrm>
        <a:graphic>
          <a:graphicData uri="http://schemas.openxmlformats.org/drawingml/2006/table">
            <a:tbl>
              <a:tblPr/>
              <a:tblGrid>
                <a:gridCol w="2770200"/>
                <a:gridCol w="1138320"/>
                <a:gridCol w="1309680"/>
                <a:gridCol w="1309680"/>
                <a:gridCol w="1309680"/>
                <a:gridCol w="1309680"/>
                <a:gridCol w="1309680"/>
                <a:gridCol w="1309680"/>
              </a:tblGrid>
              <a:tr h="1120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ТОГ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1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1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17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2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2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654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сего отметок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20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ятерк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192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войк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20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ропуск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9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1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8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5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64" name="Прямоугольник 4"/>
          <p:cNvSpPr/>
          <p:nvPr/>
        </p:nvSpPr>
        <p:spPr>
          <a:xfrm>
            <a:off x="168120" y="0"/>
            <a:ext cx="1176660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Успеваемость и пропуски учащихся 5Б класс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39760"/>
            <a:ext cx="11407680" cy="100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c00000"/>
              </a:solidFill>
              <a:latin typeface="Times New Roman"/>
              <a:ea typeface="Times New Roman"/>
            </a:endParaRPr>
          </a:p>
        </p:txBody>
      </p:sp>
      <p:graphicFrame>
        <p:nvGraphicFramePr>
          <p:cNvPr id="266" name="Диаграмма 13"/>
          <p:cNvGraphicFramePr/>
          <p:nvPr/>
        </p:nvGraphicFramePr>
        <p:xfrm>
          <a:off x="225360" y="0"/>
          <a:ext cx="11966760" cy="6959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67" name="Диаграмма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5360" y="0"/>
                    <a:ext cx="11966760" cy="695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Прямоугольник 3"/>
          <p:cNvSpPr/>
          <p:nvPr/>
        </p:nvSpPr>
        <p:spPr>
          <a:xfrm>
            <a:off x="401760" y="176040"/>
            <a:ext cx="113410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а 2. Количество пожаров и ДТП по месяцам и датам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69" name=""/>
          <p:cNvGraphicFramePr/>
          <p:nvPr/>
        </p:nvGraphicFramePr>
        <p:xfrm>
          <a:off x="401760" y="1830240"/>
          <a:ext cx="11341080" cy="4738680"/>
        </p:xfrm>
        <a:graphic>
          <a:graphicData uri="http://schemas.openxmlformats.org/drawingml/2006/table">
            <a:tbl>
              <a:tblPr/>
              <a:tblGrid>
                <a:gridCol w="2414520"/>
                <a:gridCol w="1352520"/>
                <a:gridCol w="1263600"/>
                <a:gridCol w="1262160"/>
                <a:gridCol w="1262160"/>
                <a:gridCol w="1261800"/>
                <a:gridCol w="1262160"/>
                <a:gridCol w="1262160"/>
              </a:tblGrid>
              <a:tr h="1579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ТОГ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1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1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2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70c0"/>
                          </a:solidFill>
                          <a:latin typeface="Verdana"/>
                        </a:rPr>
                        <a:t>2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79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Пожа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5793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Т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0" name=""/>
          <p:cNvGraphicFramePr/>
          <p:nvPr/>
        </p:nvGraphicFramePr>
        <p:xfrm>
          <a:off x="57240" y="38160"/>
          <a:ext cx="12134880" cy="6867360"/>
        </p:xfrm>
        <a:graphic>
          <a:graphicData uri="http://schemas.openxmlformats.org/drawingml/2006/table">
            <a:tbl>
              <a:tblPr/>
              <a:tblGrid>
                <a:gridCol w="2396880"/>
                <a:gridCol w="2598840"/>
                <a:gridCol w="2430360"/>
                <a:gridCol w="2503800"/>
                <a:gridCol w="2205000"/>
              </a:tblGrid>
              <a:tr h="685800">
                <a:tc gridSpan="5">
                  <a:txBody>
                    <a:bodyPr lIns="8280" rIns="8280" tIns="8280" bIns="828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9040">
                <a:tc rowSpan="2"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Числ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gridSpan="2">
                  <a:txBody>
                    <a:bodyPr lIns="8280" rIns="8280" tIns="8280" bIns="828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ен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8280" rIns="8280" tIns="8280" bIns="8280" anchor="ctr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ече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90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емперату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Давл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Температур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влени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0480"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b0f0"/>
                          </a:solidFill>
                          <a:latin typeface="Verdana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0480"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b0f0"/>
                          </a:solidFill>
                          <a:latin typeface="Verdana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0840"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b0f0"/>
                          </a:solidFill>
                          <a:latin typeface="Verdana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0480"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b0f0"/>
                          </a:solidFill>
                          <a:latin typeface="Verdana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7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0480"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b0f0"/>
                          </a:solidFill>
                          <a:latin typeface="Verdana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7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90480"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b0f0"/>
                          </a:solidFill>
                          <a:latin typeface="Verdana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8800"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b0f0"/>
                          </a:solidFill>
                          <a:latin typeface="Verdana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4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8280" rIns="8280" tIns="8280" bIns="828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+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8280" marR="8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360" rIns="9360" tIns="9360" bIns="9360" anchor="ctr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ctr" marL="9360" marR="9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71" name="Прямоугольник 5"/>
          <p:cNvSpPr/>
          <p:nvPr/>
        </p:nvSpPr>
        <p:spPr>
          <a:xfrm>
            <a:off x="57240" y="117360"/>
            <a:ext cx="121348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а 3. Дневник погоды по месяцам (октябрь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2" name=""/>
          <p:cNvGraphicFramePr/>
          <p:nvPr/>
        </p:nvGraphicFramePr>
        <p:xfrm>
          <a:off x="0" y="1084320"/>
          <a:ext cx="12192120" cy="5773680"/>
        </p:xfrm>
        <a:graphic>
          <a:graphicData uri="http://schemas.openxmlformats.org/drawingml/2006/table">
            <a:tbl>
              <a:tblPr/>
              <a:tblGrid>
                <a:gridCol w="2787480"/>
                <a:gridCol w="1263960"/>
                <a:gridCol w="1355760"/>
                <a:gridCol w="1357200"/>
                <a:gridCol w="1357200"/>
                <a:gridCol w="1357200"/>
                <a:gridCol w="1355760"/>
                <a:gridCol w="1357560"/>
              </a:tblGrid>
              <a:tr h="12668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Итого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b0f0"/>
                          </a:solidFill>
                          <a:latin typeface="Verdana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b0f0"/>
                          </a:solidFill>
                          <a:latin typeface="Verdana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b0f0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00b0f0"/>
                          </a:solidFill>
                          <a:latin typeface="Verdana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b0f0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00b0f0"/>
                          </a:solidFill>
                          <a:latin typeface="Verdana"/>
                        </a:rPr>
                        <a:t>1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b0f0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00b0f0"/>
                          </a:solidFill>
                          <a:latin typeface="Verdana"/>
                        </a:rPr>
                        <a:t>1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b0f0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00b0f0"/>
                          </a:solidFill>
                          <a:latin typeface="Verdana"/>
                        </a:rPr>
                        <a:t>2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b0f0"/>
                          </a:solidFill>
                          <a:latin typeface="Verdana"/>
                        </a:rPr>
                        <a:t> </a:t>
                      </a:r>
                      <a:r>
                        <a:rPr b="1" lang="ru-RU" sz="3200" spc="-1" strike="noStrike">
                          <a:solidFill>
                            <a:srgbClr val="00b0f0"/>
                          </a:solidFill>
                          <a:latin typeface="Verdana"/>
                        </a:rPr>
                        <a:t>2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6794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Кол-во человек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3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5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5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4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4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1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8274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Мировая извест-ст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2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ru-RU" sz="3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73" name="Прямоугольник 4"/>
          <p:cNvSpPr/>
          <p:nvPr/>
        </p:nvSpPr>
        <p:spPr>
          <a:xfrm>
            <a:off x="0" y="177840"/>
            <a:ext cx="1219212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Таблица 4. Количество рожденных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14000" y="320400"/>
            <a:ext cx="11277720" cy="58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Verdana"/>
              </a:rPr>
              <a:t>Заключение</a:t>
            </a:r>
            <a:endParaRPr b="1" lang="en-US" sz="40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14000" y="907560"/>
            <a:ext cx="11277720" cy="5761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цель достигнута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задачи выполнены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приведены статистические данные, подтверждающие, что счастливая и долгая жизнь человека не зависит от чисел 7 и 13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гипотеза подтверждена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14000" y="262080"/>
            <a:ext cx="11363400" cy="4789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br>
              <a:rPr sz="5900"/>
            </a:br>
            <a:r>
              <a:rPr b="1" lang="ru-RU" sz="5900" spc="-1" strike="noStrike">
                <a:solidFill>
                  <a:srgbClr val="c00000"/>
                </a:solidFill>
                <a:latin typeface="Verdana"/>
              </a:rPr>
              <a:t>Спасибо за внимание!</a:t>
            </a:r>
            <a:br>
              <a:rPr sz="5900"/>
            </a:br>
            <a:br>
              <a:rPr sz="5900"/>
            </a:br>
            <a:endParaRPr b="1" lang="en-US" sz="5900" spc="-1" strike="noStrike">
              <a:solidFill>
                <a:srgbClr val="ff8d3e"/>
              </a:solidFill>
              <a:latin typeface="Verdana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69960" y="4983120"/>
            <a:ext cx="1091232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457200" y="530280"/>
            <a:ext cx="11353680" cy="607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V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. Список использованной литературы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.  Депман И. Я. Рассказы о математике. М. 1982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2. Меннингер К. История цифр. Числа, символы, слова\ Пер. с англ. Ломановой В.Е.. М.:ЗАО Центрполиграф., 2011, 543 с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3. Тим Глинн-Джонс. Странности цифр и чисел.М.: РИПОЛ классик, 2009, 243 с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4. 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http://ru.wikipedia.org/wiki/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http://www.ebbinghaus.ru/wpcontent/uploads/2010/02/Miller_564-580.pd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6.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http://amazing-facts.ru/another/fakty_o_chisle_13.htm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7.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http://hijos.ru/chislovoj-salon-krasoty/chislo-13/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8.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http://78.mchs.gov.ru/operationalpage/operational/2016/12/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9.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https://www.gismeteo.ru/diary/4079/2016/9/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0.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http://кто-родился.рф/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12.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Verdana"/>
              </a:rPr>
              <a:t>http:/igry-dlya-razvitiya-pamyati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27120" y="388800"/>
            <a:ext cx="11150640" cy="10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Verdana"/>
              </a:rPr>
              <a:t>Проблема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627120" y="1495440"/>
            <a:ext cx="11150640" cy="217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В настоящее время, в век развития науки и техники, миллионы людей во всем мире верят в то, что числа имеют влияние на их жизн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3" name="Заголовок 1"/>
          <p:cNvSpPr/>
          <p:nvPr/>
        </p:nvSpPr>
        <p:spPr>
          <a:xfrm>
            <a:off x="627120" y="3470400"/>
            <a:ext cx="1115064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0" bIns="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Verdana"/>
              </a:rPr>
              <a:t>Гипотеза исследования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Содержимое 2"/>
          <p:cNvSpPr/>
          <p:nvPr/>
        </p:nvSpPr>
        <p:spPr>
          <a:xfrm>
            <a:off x="627120" y="4613400"/>
            <a:ext cx="11150640" cy="174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Числа 7 и  13 не оказывают влияния на нашу жизн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-360" y="-360"/>
            <a:ext cx="12192120" cy="6418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82880" tIns="91440" anchor="t">
            <a:norm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Объект исследования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События и явления, с которыми связаны числа  7 и 13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Заголовок 1"/>
          <p:cNvSpPr/>
          <p:nvPr/>
        </p:nvSpPr>
        <p:spPr>
          <a:xfrm>
            <a:off x="609480" y="2638440"/>
            <a:ext cx="10972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libri"/>
              </a:rPr>
              <a:t>Предмет исследования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Прямоугольник 1"/>
          <p:cNvSpPr/>
          <p:nvPr/>
        </p:nvSpPr>
        <p:spPr>
          <a:xfrm>
            <a:off x="328680" y="3286080"/>
            <a:ext cx="1125360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Verdana"/>
              </a:rPr>
              <a:t>связь между  качеством событий,  происходящих  7  и  13,  и     данными  числами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Заголовок 1"/>
          <p:cNvSpPr/>
          <p:nvPr/>
        </p:nvSpPr>
        <p:spPr>
          <a:xfrm>
            <a:off x="347760" y="369720"/>
            <a:ext cx="11299680" cy="4811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c00000"/>
                </a:solidFill>
                <a:latin typeface="Calibri"/>
              </a:rPr>
              <a:t>Тема исследования: 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00"/>
                </a:solidFill>
                <a:latin typeface="Calibri"/>
              </a:rPr>
              <a:t>7 и 13 – правда или суеверие? 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Объект 2"/>
          <p:cNvSpPr/>
          <p:nvPr/>
        </p:nvSpPr>
        <p:spPr>
          <a:xfrm>
            <a:off x="216000" y="752400"/>
            <a:ext cx="11780640" cy="5626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Verdana"/>
              </a:rPr>
              <a:t>Цель исследования: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выяснение влияния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Verdana"/>
              </a:rPr>
              <a:t>чисел 7 и 13 на нашу жизнь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94760" y="391680"/>
            <a:ext cx="11997000" cy="717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45720" rIns="45720" t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c00000"/>
                </a:solidFill>
                <a:latin typeface="Verdana"/>
              </a:rPr>
              <a:t>Задачи исследования:</a:t>
            </a:r>
            <a:endParaRPr b="1" lang="en-US" sz="41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 type="subTitle"/>
          </p:nvPr>
        </p:nvSpPr>
        <p:spPr>
          <a:xfrm>
            <a:off x="195120" y="1109160"/>
            <a:ext cx="11931840" cy="4899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82880" tIns="0" anchor="t">
            <a:noAutofit/>
          </a:bodyPr>
          <a:p>
            <a:pPr marL="608040" indent="-571680" algn="just"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Изучить   литературу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080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 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08040" indent="-571680" algn="just"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ровести анкетировани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080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608040" indent="-571680" algn="just">
              <a:buClr>
                <a:srgbClr val="f07f09"/>
              </a:buClr>
              <a:buSzPct val="8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Собрать статистические данные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326520" y="302760"/>
            <a:ext cx="11495160" cy="6380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182880" tIns="91440" anchor="t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ru-RU" sz="3600" spc="-1" strike="noStrike">
                <a:solidFill>
                  <a:srgbClr val="c00000"/>
                </a:solidFill>
                <a:latin typeface="Verdana"/>
              </a:rPr>
              <a:t>Методы исследования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3600" spc="-1" strike="noStrike">
                <a:solidFill>
                  <a:srgbClr val="000000"/>
                </a:solidFill>
                <a:latin typeface="Verdana"/>
              </a:rPr>
              <a:t>теоретические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- анализ литературы,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с</a:t>
            </a:r>
            <a:r>
              <a:rPr b="0" i="1" lang="ru-RU" sz="3600" spc="-1" strike="noStrike">
                <a:solidFill>
                  <a:srgbClr val="000000"/>
                </a:solidFill>
                <a:latin typeface="Verdana"/>
              </a:rPr>
              <a:t>татистический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 (количественный, качественный - анкетирование)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Verdana"/>
              </a:rPr>
              <a:t>практические </a:t>
            </a: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– анализ статистических   данных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Verdana"/>
              </a:rPr>
              <a:t>  </a:t>
            </a:r>
            <a:r>
              <a:rPr b="1" lang="ru-RU" sz="3600" spc="-1" strike="noStrike">
                <a:solidFill>
                  <a:srgbClr val="c00000"/>
                </a:solidFill>
                <a:latin typeface="Verdana"/>
              </a:rPr>
              <a:t>Продукт исследования</a:t>
            </a:r>
            <a:r>
              <a:rPr b="1" lang="ru-RU" sz="36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Проведение занятия внеурочной математики по теме «7 и 13-правда или суеверие?»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Рисунок 1" descr=""/>
          <p:cNvPicPr/>
          <p:nvPr/>
        </p:nvPicPr>
        <p:blipFill>
          <a:blip r:embed="rId1"/>
          <a:stretch/>
        </p:blipFill>
        <p:spPr>
          <a:xfrm>
            <a:off x="477720" y="289080"/>
            <a:ext cx="11147400" cy="63529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14T17:12:07Z</dcterms:created>
  <dc:creator>808224</dc:creator>
  <dc:description/>
  <dc:language>en-US</dc:language>
  <cp:lastModifiedBy>1</cp:lastModifiedBy>
  <dcterms:modified xsi:type="dcterms:W3CDTF">2017-03-03T07:56:53Z</dcterms:modified>
  <cp:revision>48</cp:revision>
  <dc:subject/>
  <dc:title>7 и 13 – правда или суеверия?</dc:title>
</cp:coreProperties>
</file>